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4D2-F56B-4A28-B2E9-88D4480D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BAC-AB22-4717-8BB3-37C4ABB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B9D-E142-447B-ABDF-CCEDE6ED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D76-02F7-4057-B625-159F2E74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9DE-5418-4817-8549-045ECE1F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C4EA-A28A-482A-9774-CB920026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6DAD-C20C-4819-BBDB-D31CF05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07AD-5329-4374-A541-BFDCA07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FA4-CF48-44D7-BD71-0E49EB98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ADA-CA88-4089-828E-12CC472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093-6F3B-47FB-B22B-B98F15D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956-3E05-45BA-8D6D-2C3CE89D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72D-BCD3-42FB-BEE3-75720A9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C29D-4099-42B6-B161-0944765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650B-E669-4DBD-9C59-8077871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676-CA8C-4129-B906-89997B89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8FEE-4D60-4017-98E7-930EF6EA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E1E-AE1E-4A8A-B59D-B4DD346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294-9199-4C01-84C8-688CD3E7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03B-9217-4E1A-8624-DF2FF58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E52-DC0F-469C-9293-D6A4922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9FE-F7B8-472E-AF44-F0CF940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126-5DB0-4EE9-84FC-D804563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AA0-6648-4980-B888-3D43B3D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A26-0072-4C19-AE3E-91FF789E134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3320-8D12-4007-9D2C-EC53181EBB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arackObama2005portrai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-elect" TargetMode="External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List_of_African-American_firsts" TargetMode="External"/><Relationship Id="rId4" Type="http://schemas.openxmlformats.org/officeDocument/2006/relationships/hyperlink" Target="http://en.wikipedia.org/wiki/President_of_the_United_States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niority_in_the_United_States_Senate" TargetMode="External"/><Relationship Id="rId2" Type="http://schemas.openxmlformats.org/officeDocument/2006/relationships/hyperlink" Target="http://en.wikipedia.org/wiki/United_States_Senate" TargetMode="External"/><Relationship Id="rId3" Type="http://schemas.openxmlformats.org/officeDocument/2006/relationships/hyperlink" Target="http://en.wikipedia.org/wiki/Illinoi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lumbia_College_of_Columbia_University" TargetMode="External"/><Relationship Id="rId2" Type="http://schemas.openxmlformats.org/officeDocument/2006/relationships/hyperlink" Target="http://en.wikipedia.org/wiki/Harvard_Law_School" TargetMode="External"/><Relationship Id="rId3" Type="http://schemas.openxmlformats.org/officeDocument/2006/relationships/hyperlink" Target="http://en.wikipedia.org/wiki/Harvard_Law_Review" TargetMode="External"/><Relationship Id="rId4" Type="http://schemas.openxmlformats.org/officeDocument/2006/relationships/hyperlink" Target="http://en.wikipedia.org/wiki/Community_organizing" TargetMode="External"/><Relationship Id="rId5" Type="http://schemas.openxmlformats.org/officeDocument/2006/relationships/hyperlink" Target="http://en.wikipedia.org/wiki/Civil_and_political_rights" TargetMode="External"/><Relationship Id="rId6" Type="http://schemas.openxmlformats.org/officeDocument/2006/relationships/hyperlink" Target="http://en.wikipedia.org/wiki/Illinois_Senate" TargetMode="External"/><Relationship Id="rId7" Type="http://schemas.openxmlformats.org/officeDocument/2006/relationships/hyperlink" Target="http://en.wikipedia.org/wiki/Constitutional_law" TargetMode="External"/><Relationship Id="rId8" Type="http://schemas.openxmlformats.org/officeDocument/2006/relationships/hyperlink" Target="http://en.wikipedia.org/wiki/University_of_Chicago_Law_School" TargetMode="External"/><Relationship Id="rId9" Type="http://schemas.openxmlformats.org/officeDocument/2006/relationships/hyperlink" Target="http://en.wikipedia.org/wiki/United_States_House_of_Representatives" TargetMode="External"/><Relationship Id="rId10" Type="http://schemas.openxmlformats.org/officeDocument/2006/relationships/hyperlink" Target="http://en.wikipedia.org/wiki/United_States_Senate" TargetMode="External"/><Relationship Id="rId11" Type="http://schemas.openxmlformats.org/officeDocument/2006/relationships/hyperlink" Target="http://en.wikipedia.org/wiki/Keynote" TargetMode="External"/><Relationship Id="rId12" Type="http://schemas.openxmlformats.org/officeDocument/2006/relationships/hyperlink" Target="http://en.wikipedia.org/wiki/2004_Democratic_National_Convention" TargetMode="External"/><Relationship Id="rId13" Type="http://schemas.openxmlformats.org/officeDocument/2006/relationships/hyperlink" Target="http://en.wikipedia.org/wiki/109th_United_States_Congress" TargetMode="External"/><Relationship Id="rId14" Type="http://schemas.openxmlformats.org/officeDocument/2006/relationships/hyperlink" Target="http://en.wikipedia.org/wiki/Conventional_weapon" TargetMode="External"/><Relationship Id="rId15" Type="http://schemas.openxmlformats.org/officeDocument/2006/relationships/hyperlink" Target="http://en.wikipedia.org/wiki/110th_United_States_Congress" TargetMode="External"/><Relationship Id="rId16" Type="http://schemas.openxmlformats.org/officeDocument/2006/relationships/hyperlink" Target="http://en.wikipedia.org/wiki/Lobbying_in_the_United_States" TargetMode="External"/><Relationship Id="rId17" Type="http://schemas.openxmlformats.org/officeDocument/2006/relationships/hyperlink" Target="http://en.wikipedia.org/wiki/Electoral_fraud" TargetMode="External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Barack Ob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ARR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Y: Jordan La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1066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ident elect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st black 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President-elect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of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United Stat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d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first African American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to be elected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President of the United Stat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ama was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junio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United States Senato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ro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Illinoi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rom 2005 until he resigned on November 16, 2008, following his election to the Presidenc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r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He is a graduate of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Columbia University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arvard Law School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where he was president of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Harvard Law Review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. Obama worked as a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community organizer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practiced as a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civil right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torney before serving three terms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Illinois Senate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from 1997 to 2004. He also taught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constitutional law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University of Chicago Law School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from 1992 to 2004. Following an unsuccessful bid for a seat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U.S. House of Representative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2000, he announced his campaign for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U.S. Senate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January 2003, won a primary victory in March 2004, and was elected to the Senate in November 2004. Obama delivered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keynote add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Democratic National Convention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July 2004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 a member of the Democratic minority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109th Cong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he helped create legislation to control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conventional weapon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to promote greater public accountability in the use of federal funds. He also made official trips to Eastern Europe, the Middle East, and Africa. During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110th Cong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he helped create legislation regarding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lobbying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7"/>
              </a:rPr>
              <a:t>electoral fraud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climate change, nuclear terrorism, and care for returned U.S. military personnel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114800" y="2971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end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3:44Z</dcterms:created>
  <dc:creator>766935</dc:creator>
  <dc:description/>
  <dc:language>en-US</dc:language>
  <cp:lastModifiedBy>766935</cp:lastModifiedBy>
  <dcterms:modified xsi:type="dcterms:W3CDTF">2008-11-20T16:59:15Z</dcterms:modified>
  <cp:revision>2</cp:revision>
  <dc:subject/>
  <dc:title>BARRACK OBAMA</dc:title>
</cp:coreProperties>
</file>